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4608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5594-5517-4BBC-A5EB-8011D5C9C8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F8FA-9842-4A9B-B348-278AE55964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05A1-BAA4-4D47-9796-8F60480997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06BF-0300-498D-8610-BBEDFE621B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9B2D-C53F-4937-AC7B-B1C15DE1A9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D762-BA6A-4854-9BCF-C8297B7310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DC7A-528A-4949-8C13-8D0F8675A3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98DB-8861-4C8F-9B56-004EC48A7A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48E8-FF1D-4D56-B431-BE28F92FB4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F296-5EB0-425D-A5CC-1DF333F248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F9B-C4C3-45AD-8FEE-91A43C64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28F-AC12-4232-B3E7-029B773C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2AC-38EA-4AEC-9EA7-3B0A3CED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065-F9CB-43E4-9469-42108F97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8278-9BFA-4F8A-AD4B-F78990B0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F16F-FE91-4702-914F-008413D6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AD21-235F-4841-AD53-C2705CAE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9E18-D1CF-4A7D-8104-1EF6E03D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32A6-C422-452E-AABD-71494E04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5BFB-7634-4FB3-A770-D4FA3015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363C-22FD-42F9-864B-24CA6BF1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86C-A546-4C0D-891A-D1CC5FD9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2A62-8E91-4191-8EF1-0BDC8C90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A42C-301F-4C94-8096-B6073F98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1EF7-D2FF-43B0-8481-664CF939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25C1-800F-44FC-81BB-A4651357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7E9A-8980-4B91-8D33-307AAEB5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B764F-FB44-4A7D-BF51-81681E8B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4F3A2-AE73-4202-8E8C-7BBD4DB5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9913-1EBF-4157-92BA-A23DF4E4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1FEDA-3738-4D7A-87A9-66D14C9F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F466-FFB2-4EF9-A24E-10BC2DAF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A3F-7A39-4296-9F58-A7CB697B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1862E-F1E9-4A32-83FB-C325BB8D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37DF-14BA-4F42-A4C3-CC73AE10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D604-76DF-4398-B80C-39EA0468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A6C0-F35E-4345-A688-235E5D0D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C225D-3D81-481C-A28B-66EDAD42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85890-413F-43D6-B6E6-568A0859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E1468-4F88-43CE-BB9E-057EFB64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BEA1E-1F99-4659-AF31-6892F741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B789-2AA2-458E-AFD7-7CF4AA2F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68ED2-61F5-4668-9622-8624A95A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8C8-C01C-466A-AF3A-7B9FEEE8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C1779-57F0-4038-A694-AEDDBA09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74B01-841E-4653-A686-680DFDEF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30801-96CF-4A44-B06C-69AED414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3B100-CDCD-485E-BB61-386607E8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F18B-4CC5-4B49-B46C-3EF02509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0A10B-8358-44A8-9AD7-158F8EB1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6E8C0-C1FD-47DF-A95A-603694F5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7C8ED-6B68-4A46-AEB4-BCF00C1D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FE771-96FE-4485-B8A1-70F1E3B6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C2F48-A254-4E72-A793-69EF6BB0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A5B-CD84-4D83-9100-A4B09727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B6F4B-B84A-49A5-B48E-60AAA9D7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081CD-8E9F-466C-9E5A-2DE38289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0EA04-4B14-4158-A586-DC36B9CA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FB0ED-46AA-43A8-B29D-D42CE23C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0CC3F-F3E3-4D20-BCFF-0066E651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AD73D-A646-4976-A74E-AA31B0D8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371E2-3648-4A7D-937B-99F027A5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A9F09-71C3-40C6-90A8-E06AF61C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2F8E8-D61A-485C-A6EF-9EFCF713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76211-65B5-4DE3-BBE1-F6AF2DE6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8B0-AA03-48E8-93DD-92EB6473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9425D-E9BD-4D3E-AF45-C2A83C62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56D88-3EB2-4786-AF69-8EEFA4BA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A46B0-D4AC-4CAA-B0CE-77EC3306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857B6-EB43-4A1C-BE91-0528C97F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CE1C5-59D5-45D3-A68B-ABFA9B28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B8786-9F1B-4BF9-8459-14F66AFE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87B13-0EC4-4039-85C5-B18F1575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33F1E-00EE-4103-A6F0-64550322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46EB2-0BCB-4524-AA10-616CEC34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7D0D9-8BAE-4BC9-862B-B7F90A0D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DAB-CE0C-4BE1-A2C0-C58F583D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72E95-4602-4D62-B1F0-45676D5D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1497C-7D44-476E-8459-73C6A616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8425C-0430-43B9-A15F-53C1F1B3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C17-5DA7-4837-9D72-735AD05F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141-7271-43BD-A46E-4E48AF81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7FD2-FDE5-4709-867F-3BB23753526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3F0F-CDFF-42B6-8C51-569E3BD127B9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BBBC-02D5-4247-B424-3F46078E4E1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E604-9F76-4629-A1A1-8610C2D8C04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753E-956F-4E3E-8AA7-FC4889A27A2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5251-77DF-41B0-B3D9-93C6CB92954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Q&amp;As on</a:t>
            </a: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AIR technical template and reporting on results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6 December 2015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0F1A-B904-48C0-8137-C2B9DCBB0FD4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Reporting on results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 priority for all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Rural development well prepared!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CMES developed with MS/stakeholders over 4 yea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Designed to demonstrate results at RDP and EU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nitoring and evaluation combine to show full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AE4D-6A16-40B5-9CE5-FC8B595B118E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Simplification of result reporting for 2014-2020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umber of indicators reduced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ll target indicator values obtained from simple monitoring dat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re complex result indicators addressed through evalu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"Standard" AIR based only on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1</a:t>
            </a:r>
            <a:r>
              <a:rPr b="1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 evaluation assessment in AIR 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6392-506E-4E8A-B45B-F415294C91F1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nnual result reporting (Standard AIR)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Target indicator values per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om monitoring da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hows achievements/progress to tar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nly programmed operations (primary effec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dditional contributions to Focus Area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penditure on operations flagged as having a secondary contrib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ve: only an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+ve: no new data or analysis, simple data ex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lance/proportiona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 new requirement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2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DE5B-562C-436D-827D-43CF09D09F44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context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Need to show full extent of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In reality many operations contribute to more than one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Too complex to capture from simple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6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0561-FF9F-40CC-B2F1-2DCC1EAF944E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solution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Multiple contributions to target indicators "built-in" for Priority 4 and parts of Priority 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Captured through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For other Focus Areas, operations are "flagged" when encoded in the Operations Databas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Allows evaluators to identify relevant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Discussed in ExCo, Expert group mee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valuators will quantify secondary contributions, and complementary result indicators, for the enhanced AI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Task shifted from 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Not required every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0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3880-FF7B-4CEC-A898-806944A68AF9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Flagging of secondary contributi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05" name="Picture 2" descr=""/>
          <p:cNvPicPr/>
          <p:nvPr/>
        </p:nvPicPr>
        <p:blipFill>
          <a:blip r:embed="rId1"/>
          <a:srcRect l="29791" t="7505" r="37096" b="79746"/>
          <a:stretch/>
        </p:blipFill>
        <p:spPr>
          <a:xfrm>
            <a:off x="66600" y="1484280"/>
            <a:ext cx="6677280" cy="1403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rcRect l="30486" t="71123" r="37106" b="3433"/>
          <a:stretch/>
        </p:blipFill>
        <p:spPr>
          <a:xfrm>
            <a:off x="208080" y="2860560"/>
            <a:ext cx="6535800" cy="2800440"/>
          </a:xfrm>
          <a:prstGeom prst="rect">
            <a:avLst/>
          </a:prstGeom>
          <a:ln w="0">
            <a:noFill/>
          </a:ln>
        </p:spPr>
      </p:pic>
      <p:sp>
        <p:nvSpPr>
          <p:cNvPr id="307" name="Oval 1"/>
          <p:cNvSpPr/>
          <p:nvPr/>
        </p:nvSpPr>
        <p:spPr>
          <a:xfrm>
            <a:off x="4541760" y="4627440"/>
            <a:ext cx="1584360" cy="57636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08" name="Straight Arrow Connector 3"/>
          <p:cNvCxnSpPr>
            <a:stCxn id="307" idx="7"/>
          </p:cNvCxnSpPr>
          <p:nvPr/>
        </p:nvCxnSpPr>
        <p:spPr>
          <a:xfrm flipV="1">
            <a:off x="5893920" y="4627080"/>
            <a:ext cx="118440" cy="84960"/>
          </a:xfrm>
          <a:prstGeom prst="straightConnector1">
            <a:avLst/>
          </a:prstGeom>
          <a:ln w="0">
            <a:noFill/>
          </a:ln>
        </p:spPr>
      </p:cxnSp>
      <p:sp>
        <p:nvSpPr>
          <p:cNvPr id="309" name="TextBox 6"/>
          <p:cNvSpPr/>
          <p:nvPr/>
        </p:nvSpPr>
        <p:spPr>
          <a:xfrm>
            <a:off x="6743880" y="1628640"/>
            <a:ext cx="240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If nature of operations is known, no need to go at application level, whole set of operations simil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0" name="Straight Arrow Connector 8"/>
          <p:cNvCxnSpPr>
            <a:stCxn id="307" idx="7"/>
            <a:endCxn id="309" idx="1"/>
          </p:cNvCxnSpPr>
          <p:nvPr/>
        </p:nvCxnSpPr>
        <p:spPr>
          <a:xfrm flipV="1">
            <a:off x="5894280" y="2320200"/>
            <a:ext cx="850320" cy="239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Oval 16"/>
          <p:cNvSpPr/>
          <p:nvPr/>
        </p:nvSpPr>
        <p:spPr>
          <a:xfrm>
            <a:off x="4419720" y="5153040"/>
            <a:ext cx="2350800" cy="72864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TextBox 17"/>
          <p:cNvSpPr/>
          <p:nvPr/>
        </p:nvSpPr>
        <p:spPr>
          <a:xfrm>
            <a:off x="6831000" y="4627440"/>
            <a:ext cx="24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where nature is not known in advance, coded on processing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3" name="Straight Arrow Connector 11"/>
          <p:cNvCxnSpPr>
            <a:stCxn id="311" idx="7"/>
            <a:endCxn id="312" idx="1"/>
          </p:cNvCxnSpPr>
          <p:nvPr/>
        </p:nvCxnSpPr>
        <p:spPr>
          <a:xfrm flipV="1">
            <a:off x="6426360" y="4997160"/>
            <a:ext cx="405360" cy="2620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sp>
        <p:nvSpPr>
          <p:cNvPr id="314" name="Rectangle 2"/>
          <p:cNvSpPr/>
          <p:nvPr/>
        </p:nvSpPr>
        <p:spPr>
          <a:xfrm>
            <a:off x="5334120" y="1484280"/>
            <a:ext cx="1685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6738-1DF5-4A69-8611-A67AF4678E15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Capturing secondary contribuit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376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gnoring secondary effects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leads to  underestimation of RDP achieve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687240" y="3159000"/>
            <a:ext cx="7413840" cy="3380040"/>
          </a:xfrm>
          <a:prstGeom prst="rect">
            <a:avLst/>
          </a:prstGeom>
          <a:ln w="0">
            <a:noFill/>
          </a:ln>
        </p:spPr>
      </p:pic>
      <p:sp>
        <p:nvSpPr>
          <p:cNvPr id="320" name="Oval 1"/>
          <p:cNvSpPr/>
          <p:nvPr/>
        </p:nvSpPr>
        <p:spPr>
          <a:xfrm>
            <a:off x="1474920" y="5084640"/>
            <a:ext cx="1009440" cy="8654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843280" y="3357720"/>
            <a:ext cx="2200320" cy="2158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6732720" y="5192640"/>
            <a:ext cx="1008000" cy="86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23" name="Straight Arrow Connector 3"/>
          <p:cNvCxnSpPr/>
          <p:nvPr/>
        </p:nvCxnSpPr>
        <p:spPr>
          <a:xfrm>
            <a:off x="5043600" y="4581000"/>
            <a:ext cx="969120" cy="14756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Straight Arrow Connector 15"/>
          <p:cNvCxnSpPr/>
          <p:nvPr/>
        </p:nvCxnSpPr>
        <p:spPr>
          <a:xfrm flipH="1">
            <a:off x="5218920" y="5568840"/>
            <a:ext cx="1513800" cy="488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Straight Arrow Connector 17"/>
          <p:cNvCxnSpPr>
            <a:stCxn id="320" idx="2"/>
          </p:cNvCxnSpPr>
          <p:nvPr/>
        </p:nvCxnSpPr>
        <p:spPr>
          <a:xfrm>
            <a:off x="1474560" y="5516640"/>
            <a:ext cx="1080" cy="434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Straight Arrow Connector 23"/>
          <p:cNvCxnSpPr/>
          <p:nvPr/>
        </p:nvCxnSpPr>
        <p:spPr>
          <a:xfrm>
            <a:off x="2406240" y="5392440"/>
            <a:ext cx="2431080" cy="840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5-11-17T11:17:17Z</cp:lastPrinted>
  <dcterms:modified xsi:type="dcterms:W3CDTF">2015-12-16T14:01:26Z</dcterms:modified>
  <cp:revision>477</cp:revision>
  <dc:subject/>
  <dc:title>Slide 1</dc:title>
</cp:coreProperties>
</file>